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C21-7F3A-4ECC-A040-E6AE4249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510-6D7E-4A1F-ACA9-D3FE2B9C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B21-6920-4998-8E52-A3EA5C62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A0E-146D-4DC8-BE9F-96D0FF3B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78AE-5BAD-4263-B4AB-0BEE730A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CF67-8744-496A-B44D-A3B8DCBC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ED6B-26A4-4E34-97A6-1BC7DF61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2C8C-B79A-4765-9700-D6167700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0957-B512-49CC-AD85-EFDBB6D7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7534-26D2-4C0B-B728-1F6699A4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39D7-C925-475B-AD27-EFA79DC3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98F-F286-465F-B18E-1BB8F7FB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B59A-953F-4DFB-AF90-9D7DFFF9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247B-A0D1-401C-872D-D463309B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971C-1A8D-4500-8DA9-20D246D5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4E2D-08D9-4E63-97F5-C3CBEFE0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B7EC-A1BB-42F1-B9AC-40F517C5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D0C-57AA-4D13-9807-DEC54E4B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09C-0679-4838-9DA3-93A3AA9A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688-2C14-458A-9FFA-A5A2127D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575-32D1-4440-B1C6-B27805AD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E0C-EDDC-4385-9854-6D47F257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307-950A-4C34-93D6-31D7F169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E09-D286-45A2-BE4E-B1BD5AAF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FA11-8B41-424F-98D2-C4CDED3D9D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6DFC-2901-4EA3-AA76-DB541E5BD22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dQQ6hOXqRw" TargetMode="External"/><Relationship Id="rId2" Type="http://schemas.openxmlformats.org/officeDocument/2006/relationships/hyperlink" Target="http://www.youtube.com/watch?v=8dQQ6hOXqRw" TargetMode="External"/><Relationship Id="rId3" Type="http://schemas.openxmlformats.org/officeDocument/2006/relationships/hyperlink" Target="http://www.youtube.com/watch?v=rvYZRskNV3w" TargetMode="External"/><Relationship Id="rId4" Type="http://schemas.openxmlformats.org/officeDocument/2006/relationships/hyperlink" Target="http://www.youtube.com/watch?v=rvYZRskNV3w" TargetMode="External"/><Relationship Id="rId5" Type="http://schemas.openxmlformats.org/officeDocument/2006/relationships/hyperlink" Target="http://www.youtube.com/watch?v=4JMOh-cul6M" TargetMode="External"/><Relationship Id="rId6" Type="http://schemas.openxmlformats.org/officeDocument/2006/relationships/hyperlink" Target="http://www.youtube.com/watch?v=4JMOh-cul6M" TargetMode="External"/><Relationship Id="rId7" Type="http://schemas.openxmlformats.org/officeDocument/2006/relationships/hyperlink" Target="http://www.youtube.com/watch?v=N5bSnGZlynM" TargetMode="External"/><Relationship Id="rId8" Type="http://schemas.openxmlformats.org/officeDocument/2006/relationships/hyperlink" Target="http://www.youtube.com/watch?v=N5bSnGZlynM" TargetMode="External"/><Relationship Id="rId9" Type="http://schemas.openxmlformats.org/officeDocument/2006/relationships/hyperlink" Target="http://www.youtube.com/watch?v=VFX-dKpcDz8&amp;feature=player_embedded" TargetMode="External"/><Relationship Id="rId10" Type="http://schemas.openxmlformats.org/officeDocument/2006/relationships/hyperlink" Target="http://www.youtube.com/watch?v=VFX-dKpcDz8&amp;feature=player_embedded" TargetMode="External"/><Relationship Id="rId11" Type="http://schemas.openxmlformats.org/officeDocument/2006/relationships/hyperlink" Target="http://www.youtube.com/show/knowyourmeme?s=2008" TargetMode="External"/><Relationship Id="rId12" Type="http://schemas.openxmlformats.org/officeDocument/2006/relationships/hyperlink" Target="http://www.youtube.com/watch?v=zAKdn2wd0UY&amp;feature=player_embedded" TargetMode="External"/><Relationship Id="rId13" Type="http://schemas.openxmlformats.org/officeDocument/2006/relationships/hyperlink" Target="http://www.youtube.com/watch?v=zAKdn2wd0UY&amp;feature=player_embedded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nternet M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7400" y="30481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92929"/>
                </a:solidFill>
                <a:latin typeface="Arial"/>
              </a:rPr>
              <a:t>Iphone vs. Blackberr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0" y="52578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92929"/>
                </a:solidFill>
                <a:latin typeface="Arial"/>
              </a:rPr>
              <a:t>By: Lucas Buzanic, Samantha Vanderklei &amp; Myron Zha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our Meme 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atchy through loop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relatable topi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ynergy between two different ide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ur Meme…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Iphone vs. Blackberry Street Fighter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http://www.youtube.com/watch?v=zkGawnjUHJ8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724280" cy="3903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m for Improvement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040" y="19051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ost it more in advan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pend time on editing the overall vide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ich would you cho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638680" cy="40276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at is a m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29"/>
                </a:solidFill>
                <a:latin typeface="Arial"/>
              </a:rPr>
              <a:t>Cultural idea, practice or symbol that are passed on from one person to the next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29"/>
                </a:solidFill>
                <a:latin typeface="Arial"/>
              </a:rPr>
              <a:t>Its an idea that is like a gene, that can be replicated &amp; evolv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hort videos, an altered image, video clip, animation, website… with violence, discrimination, idiocy, nudity and cute animals are intriguing to peop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.g. Epic fails, FML, people doing worst than others,textfromlastnight.co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Meme Research/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How can she SLAP?! : the movi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://www.youtube.com/watch?v=8dQQ6hOXqRw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This is Sparta! Last techno remix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http</a:t>
            </a: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://www.youtube.com/watch?v=rvYZRskNV3w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My New Haircu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http</a:t>
            </a: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://www.youtube.com/watch?v=4JMOh-cul6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LOL Cats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http</a:t>
            </a: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://www.youtube.com/watch?v=N5bSnGZlyn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George Bush shoe attack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http</a:t>
            </a: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://www.youtube.com/watch?v=VFX-dKpcDz8&amp;feature=player_embedd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Know Your Meme</a:t>
            </a:r>
            <a:r>
              <a:rPr b="0" lang="en-US" sz="1200" spc="-1" strike="noStrike" u="sng">
                <a:solidFill>
                  <a:srgbClr val="292929"/>
                </a:solidFill>
                <a:uFillTx/>
                <a:latin typeface="Arial"/>
              </a:rPr>
              <a:t>: Know Your Meme: Iraqi Shoe Tos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http</a:t>
            </a:r>
            <a:r>
              <a:rPr b="0" lang="en-US" sz="12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://www.youtube.com/watch?v=zAKdn2wd0UY&amp;feature=player_embedd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Know Your Meme: Know Your Meme: Peanut Butter Jelly Tim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3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http://www.youtube.com/watch?v=ym8D0EELSZ4&amp;feature=player_embedd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rther 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434120" cy="285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774960" cy="4800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609480" y="4724280"/>
            <a:ext cx="4451400" cy="162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Forms of 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Writ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Speech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Gestur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Visua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ont’d Forms of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More importantly…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The INTERN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92929"/>
                </a:solidFill>
                <a:latin typeface="Arial"/>
              </a:rPr>
              <a:t>Has been a main source of exchanging information between individual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92929"/>
                </a:solidFill>
                <a:latin typeface="Arial"/>
              </a:rPr>
              <a:t>Information is passed from one person to the next within secon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nternet A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Faceboo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Email Distribu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Youtub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Foru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Wikispa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Virtual World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5667480" cy="3629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5488200" cy="3657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3348000" cy="3423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3429000" y="914400"/>
            <a:ext cx="5438880" cy="128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5257800" y="152280"/>
            <a:ext cx="327816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Meme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Comparison between the leading competitors in Cellular phon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92929"/>
                </a:solidFill>
                <a:latin typeface="Arial"/>
              </a:rPr>
              <a:t>Specs, design, key selling poi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92929"/>
                </a:solidFill>
                <a:latin typeface="Arial"/>
              </a:rPr>
              <a:t>Street Fighter vide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92929"/>
                </a:solidFill>
                <a:latin typeface="Arial"/>
              </a:rPr>
              <a:t>Keeps your focus as a visual </a:t>
            </a:r>
            <a:r>
              <a:rPr b="0" i="1" lang="en-CA" sz="2800" spc="-1" strike="noStrike">
                <a:solidFill>
                  <a:srgbClr val="292929"/>
                </a:solidFill>
                <a:latin typeface="Arial"/>
              </a:rPr>
              <a:t>Battle </a:t>
            </a:r>
            <a:r>
              <a:rPr b="0" lang="en-CA" sz="2800" spc="-1" strike="noStrike">
                <a:solidFill>
                  <a:srgbClr val="292929"/>
                </a:solidFill>
                <a:latin typeface="Arial"/>
              </a:rPr>
              <a:t>between Ryu &amp; Bison/Iphone &amp; Blackberr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22:01:23Z</dcterms:created>
  <dc:creator>s2vande</dc:creator>
  <dc:description/>
  <dc:language>en-US</dc:language>
  <cp:lastModifiedBy>Sheridan Sheridan</cp:lastModifiedBy>
  <dcterms:modified xsi:type="dcterms:W3CDTF">2010-11-18T22:43:06Z</dcterms:modified>
  <cp:revision>22</cp:revision>
  <dc:subject/>
  <dc:title>Internet Meme</dc:title>
</cp:coreProperties>
</file>